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10C-EFEB-4AD2-B7CD-66A2DE7D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0DE-E547-462B-8F26-964F663E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1A0-DCE0-4EAE-AA17-CFEF0310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B1C-C3B5-4DB8-8DFD-CA6BE020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DF3-325A-4D15-98A1-FF40A706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C8A-A3B5-4648-83C5-15849BC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DC2-829E-4BFE-9742-36058B4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C56-F037-4F24-9AEA-A16AEBD7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2C1-BBC3-43DA-B875-54EF0D01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799-EA91-4589-99CE-25109294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D59-5060-4619-A13F-4E83451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D58-09A9-45C7-B9C7-B262EFC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819-7271-43B2-9A37-85C06BD95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65400"/>
            <a:ext cx="9144000" cy="3992400"/>
            <a:chOff x="0" y="1265400"/>
            <a:chExt cx="9144000" cy="39924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1265400"/>
              <a:ext cx="9144000" cy="38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54280" y="4084920"/>
              <a:ext cx="5651640" cy="117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17:54Z</dcterms:created>
  <dc:creator>Dr. Kerstin Lieneman</dc:creator>
  <dc:description/>
  <dc:language>en-US</dc:language>
  <cp:lastModifiedBy>Dr. Kerstin Lieneman</cp:lastModifiedBy>
  <dcterms:modified xsi:type="dcterms:W3CDTF">2010-04-19T12:22:47Z</dcterms:modified>
  <cp:revision>1</cp:revision>
  <dc:subject/>
  <dc:title>PowerPoint-Präsentation</dc:title>
</cp:coreProperties>
</file>